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20.wmf" ContentType="image/x-wmf"/>
  <Override PartName="/ppt/media/image10.png" ContentType="image/png"/>
  <Override PartName="/ppt/media/image6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0293-EA7C-4CE4-A428-4B64E86B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4A3-7531-447A-9529-7D26C6D5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9B5F5-A95F-42E5-961B-244D8605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321FF-2111-44F9-A11F-86AB97E2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7E440-CA3E-40DF-9207-60486429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43BF2-E5F4-43E4-9A46-93E40F0E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FCE38-4B8F-4FB7-9FB7-3EAC3B19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C46F6-77DC-4233-9EB4-EE58B5AA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3DB55-EDF8-4588-B54C-0D7DF0FC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80FB3-76A3-476F-B9B1-D6601400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4CCCD-E3E0-4E52-8F63-66A7DC5F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857E8-2C18-470E-A87B-849DA5B8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050B-FAB2-42D5-85CB-F1D56079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C735A-0BF4-4058-B8E7-9120653A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1C379-2DC6-429A-916E-1DAAE5E2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403C0-29D8-4289-854D-BB5FC73E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D7122-F11E-45B5-A144-490DACB1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67605-89BB-4BE9-9E0D-B0E3A39D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01710-122B-43DC-8184-F6AE6BBE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8FACE-2612-4376-8907-B35BFAAD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2EEF1-D762-4B89-A2BB-AAE33FEE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FF98B-6C2B-4F8A-AC66-F6EDE5BC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1E768-EACB-4AFF-BD05-06BC7021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6EF-4985-4EC4-858A-6246A1E6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99279-EE45-4D50-AFCE-7DDE5737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23419-4BDE-466C-9706-7C22049C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94327-69CF-4DDA-BF0C-8471EA30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4140F-F5C7-414B-AA99-5509CDFF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29B8C-8604-49B0-9617-DABFFA0C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48EC8-F258-4AFD-95C9-1F63AFC3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05EDB-E5FB-48E3-B603-C99CE60E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2138C-9939-47F8-9A72-5E163088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F8BA3-7A7D-4FC0-AB3F-E3AE9D93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CF982-25A5-40EC-96A4-8F4E5748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C625-15AB-457D-B176-626A835B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1E98D-E0DB-4CE0-BB02-3569E5AD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5B6F0-008B-4E1E-A07C-B4DB103E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5913D-9A18-4FAB-AC0E-F4076219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21908-D7B7-401F-B82F-1C0B0419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B9A39-DA2E-4BF0-A76B-F1B03404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93A03-EB97-4E66-9C59-7F8DB131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B6356-CE13-44E7-BAE1-B0DD6A62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E8650-34F7-41B3-A80D-2BF184E8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D0533-C4BA-47EB-9294-3007567D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55E39-6DD3-497A-8FCB-B7440305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DAEF-08EB-4062-B1E9-6D201D58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FF02E-87AE-4E8B-B791-038A295D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C90D7-AD29-4C2C-84E1-58A5D5F5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9D6FA-B593-40D0-A11D-1F1E5CAC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E7A0F-A981-46B6-B282-656E4D53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16739-2348-4DDD-A331-E892C785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DC6C-95D1-452D-89CA-84DA2749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34BD-82FA-4C82-8F20-6235426E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70EC-3064-473B-8D46-88CE8096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7008-338E-4587-81DC-58F966CD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2503-ECF7-4A1A-9682-9FCEB7E9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1A3-6D9B-4107-B569-6D731B00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CE29-54AA-454A-8F02-9221B58F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FCC4-9869-4E65-98B6-6F310D22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FBDB-69C0-4C94-980A-03C47050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919A-51B3-4F2B-A95B-B517C81E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8CB9-CF71-4245-89F8-2D6DEEB5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41A54-6ADA-4056-AB74-9A56BF0E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C1FEE-48BC-442F-9798-4F945CD2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D9AFC-6172-4CA5-8828-DFE9FFF2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7AFB4-0339-4864-91BC-72FD5CC6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8C5E7-6CE2-4F36-A5BA-EC2B4143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CB8-50AA-4113-AA4C-B67DA3FB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2C768-B811-46C0-84C6-4B8AC00F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2B4CC-AE23-419F-A0A0-0C131358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E656D-B9E3-4438-80EE-5A58B948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E32D9-0A1F-438E-A1D6-EF1B70D3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130D8-DB74-475D-9BC9-88DE5C5D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D7E8E-2BFA-40FD-B712-033866BD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85205-F911-4C4E-A201-93824608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1C362-8FCF-4484-8045-FFD7CF9F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8FB9B-7A1C-4831-8A34-9FDDB628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B8891-3174-4525-8E8E-7A17EEC2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05E5-B0B7-4258-AE30-E4C78369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47EB5-D056-4AAF-8046-86C11070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35CAF-7D33-4DF7-903B-CBED947A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ED8D2-CF90-4F2D-9B7F-41DB0718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59FC5-289D-4C4E-B1E9-782B9A59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6648B-DEC1-48A9-AC75-3EA7E35E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8083E-5E3D-4A0F-8437-A2ACFE95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E09C0-E3CE-468F-86AD-9C50FB4F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58C5D-6638-44CF-BB27-71E13957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2497A-5B57-4A53-8F9D-6C41E6D0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3D0E2-4D3E-4A1A-AA27-79AD45C0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95D-F434-4BF2-8CAE-6AF7FBA4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D7929-E05D-47A5-9FE8-66149F98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C3934-ADE9-4A07-8EA8-20A7583C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B229B-5F4E-478A-9FE3-9EFFE40A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2E8E5-0DCE-48AD-9E85-0F661F64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CB36D-1F6B-4789-B1F5-01EBFAA4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921C7-9DA3-4D05-A6AC-B1D8AA00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B44F9-E4FE-4B7E-824C-9D48CF09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F76CA-0C5E-40F0-B771-071C7B6D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5EFC3-0F13-4D24-97DF-BC48ECF6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4BC1E-A99E-4C1F-A929-5AB3A129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0CA5-C140-4DF2-B529-F540336B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2D022-2FC0-4CF6-82C8-5CADC761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89D25-8109-43CC-9B22-E1EE65AB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510C7-1438-4366-8A00-39BA72D2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E0B26-CCA5-4406-BDF8-45D5EE94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4811A-E8BA-4939-9589-80D04009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1A0BB-E596-4ADD-948E-10A7178F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62D53-2898-49E7-819F-1CB45137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7DAE2-2E2B-4BB8-A8BF-61F17F76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C39B9-CD9A-4EC0-BD85-205971FD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D9589-F2CF-4D0F-B6AD-D8BED5D3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4B4-A9B3-47A0-88A9-456D8CC7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1350E-127E-42D6-A41C-0BC4AE3F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3DC13-DA46-4169-B7A7-14DAC124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9EC64-18D9-48E0-9999-2B42C111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DDFAE-BEE6-49CB-8BD6-59101F38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0B819-556A-4143-8A7C-BE539DF9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9F50D-BCD6-4489-A5B0-9A005330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2ADE1-A145-4EA4-8F0E-BBE9169C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49111-BABD-4D45-96A0-D6983FE3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04CFA-0973-4772-90FF-57FB18C3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1482B-B8D2-4C7D-B440-8BB6CD11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38C-F2F2-46F4-9422-71E6B91D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D0631-0433-41FC-88A4-723D8A4F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C892E-369A-48B6-8400-5CE7927C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CD800-967E-412B-AF5D-3B671AF4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5888E-6D87-4575-A2FC-A1382321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44A48-F654-48FF-BCA2-3849C7E7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A28EB-5E8F-4C2B-83E3-ACB06380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2DAA5-D655-4E50-9D44-BB558616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52A9B-7B24-409E-8CF8-81C32CD5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AFCA8-0FDF-4F3C-A1F8-5B9AA20E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9A50E-90D7-46F8-8694-F07CD1D9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6ACE-B5FE-435C-B431-51D52ECC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F1F79-43C8-4681-9EDC-C27BD1B1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37DE5-BEA6-4D17-BEFA-755FF101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54934-09A8-4FDC-A0EB-129EC41F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4AD12-5460-4CD9-8297-31578ED8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C0530-A895-4545-B94F-0F7C3CBD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99439-7438-4AD9-90EA-82F5C549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77949-6D9C-4F7B-AB91-0C3F6012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7417A-68F3-41E1-85C9-8E9A4E8F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1F38F-CCDE-459C-BF8F-9B7517AB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70F97-2095-409E-A826-3D9842E8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012E-D037-4E8F-A2D7-7513365872E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87" name="Slika 7" descr=""/>
          <p:cNvPicPr/>
          <p:nvPr/>
        </p:nvPicPr>
        <p:blipFill>
          <a:blip r:embed="rId4"/>
          <a:stretch/>
        </p:blipFill>
        <p:spPr>
          <a:xfrm>
            <a:off x="0" y="-23760"/>
            <a:ext cx="9144000" cy="7189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616A-F7EA-4C59-96D6-F8CFA9C5818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0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F2F3-FBA1-4DBB-BEA0-038E86EA0FD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73" name="Slika 7" descr=""/>
          <p:cNvPicPr/>
          <p:nvPr/>
        </p:nvPicPr>
        <p:blipFill>
          <a:blip r:embed="rId4"/>
          <a:stretch/>
        </p:blipFill>
        <p:spPr>
          <a:xfrm>
            <a:off x="0" y="-1440"/>
            <a:ext cx="9144000" cy="718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99D0-2005-4FCE-B9D1-52E84364F00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DD9D-3CE9-4AFB-B3FE-4FE28C928EB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86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3B4A-39AC-4295-952B-3059C4DC67D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9" name="Slika 7" descr=""/>
          <p:cNvPicPr/>
          <p:nvPr/>
        </p:nvPicPr>
        <p:blipFill>
          <a:blip r:embed="rId4"/>
          <a:stretch/>
        </p:blipFill>
        <p:spPr>
          <a:xfrm>
            <a:off x="-14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4451-ABC8-4B34-AF56-14627216DE0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72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929E-B361-4B6F-AA5C-6CE2774859A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15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BFB6-B96A-4EBA-A6A7-8427110D274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58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7D3A-1A0A-4BAD-9789-F0147C85289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01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FAF8-6144-495C-9020-544BCBBD6B4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44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E151-606F-4D75-BC14-2CC389BFAD5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c3324"/>
                </a:solidFill>
                <a:latin typeface="Arial"/>
                <a:ea typeface="Arial"/>
              </a:rPr>
              <a:t>Volumen</a:t>
            </a:r>
            <a:r>
              <a:rPr b="1" lang="en-US" sz="4400" spc="-1" strike="noStrike">
                <a:solidFill>
                  <a:srgbClr val="fc3324"/>
                </a:solidFill>
                <a:latin typeface="Arial"/>
                <a:ea typeface="Arial"/>
              </a:rPr>
              <a:t> tij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Tijela i tv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4"/>
          <p:cNvSpPr/>
          <p:nvPr/>
        </p:nvSpPr>
        <p:spPr>
          <a:xfrm>
            <a:off x="484200" y="1752480"/>
            <a:ext cx="44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dređivanje volumena kamen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5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2686320" cy="2357280"/>
          </a:xfrm>
          <a:prstGeom prst="rect">
            <a:avLst/>
          </a:prstGeom>
          <a:ln w="0">
            <a:noFill/>
          </a:ln>
        </p:spPr>
      </p:pic>
      <p:sp>
        <p:nvSpPr>
          <p:cNvPr id="550" name="TextBox 6"/>
          <p:cNvSpPr/>
          <p:nvPr/>
        </p:nvSpPr>
        <p:spPr>
          <a:xfrm>
            <a:off x="2138760" y="5029200"/>
            <a:ext cx="1761120" cy="520560"/>
          </a:xfrm>
          <a:prstGeom prst="rect">
            <a:avLst/>
          </a:prstGeom>
          <a:solidFill>
            <a:srgbClr val="dce6f2"/>
          </a:solidFill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 = V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- V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7"/>
          <p:cNvSpPr/>
          <p:nvPr/>
        </p:nvSpPr>
        <p:spPr>
          <a:xfrm>
            <a:off x="5267520" y="2666880"/>
            <a:ext cx="2626560" cy="1648440"/>
          </a:xfrm>
          <a:prstGeom prst="rect">
            <a:avLst/>
          </a:prstGeom>
          <a:solidFill>
            <a:srgbClr val="dce6f2"/>
          </a:solidFill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amen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– V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ame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0 cm³ - 30 cm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am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10 cm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1373040" y="335268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2973240" y="30481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Slika 2" descr=""/>
          <p:cNvPicPr/>
          <p:nvPr/>
        </p:nvPicPr>
        <p:blipFill>
          <a:blip r:embed="rId2"/>
          <a:stretch/>
        </p:blipFill>
        <p:spPr>
          <a:xfrm>
            <a:off x="395280" y="973080"/>
            <a:ext cx="13572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9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1219320" cy="372960"/>
          </a:xfrm>
          <a:prstGeom prst="rect">
            <a:avLst/>
          </a:prstGeom>
          <a:ln w="0">
            <a:noFill/>
          </a:ln>
        </p:spPr>
      </p:pic>
      <p:sp>
        <p:nvSpPr>
          <p:cNvPr id="556" name="TextBox 2"/>
          <p:cNvSpPr/>
          <p:nvPr/>
        </p:nvSpPr>
        <p:spPr>
          <a:xfrm>
            <a:off x="228600" y="1981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zmjeri koliko zraka izdahneš jednim izdisaj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5" descr=""/>
          <p:cNvPicPr/>
          <p:nvPr/>
        </p:nvPicPr>
        <p:blipFill>
          <a:blip r:embed="rId2"/>
          <a:stretch/>
        </p:blipFill>
        <p:spPr>
          <a:xfrm>
            <a:off x="4495680" y="2743200"/>
            <a:ext cx="23004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3"/>
          <p:cNvSpPr/>
          <p:nvPr/>
        </p:nvSpPr>
        <p:spPr>
          <a:xfrm>
            <a:off x="291960" y="1676520"/>
            <a:ext cx="74808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volume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tije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Nabroji veće i manje mjerne jedinice za volum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litr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Čemu služi menzur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ako se određuje volumen nepravilnih tije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Izračunajte volumen kutije visoke 6dm ako je njez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duljina 54cm,a širina 285m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7.  S pomoću menzure odredite volumen narukv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Slika 2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3400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3" descr=""/>
          <p:cNvPicPr/>
          <p:nvPr/>
        </p:nvPicPr>
        <p:blipFill>
          <a:blip r:embed="rId1"/>
          <a:srcRect l="0" t="0" r="59634" b="0"/>
          <a:stretch/>
        </p:blipFill>
        <p:spPr>
          <a:xfrm>
            <a:off x="304920" y="1143000"/>
            <a:ext cx="2971800" cy="380880"/>
          </a:xfrm>
          <a:prstGeom prst="rect">
            <a:avLst/>
          </a:prstGeom>
          <a:ln w="0">
            <a:noFill/>
          </a:ln>
        </p:spPr>
      </p:pic>
      <p:sp>
        <p:nvSpPr>
          <p:cNvPr id="518" name="TextBox 4"/>
          <p:cNvSpPr/>
          <p:nvPr/>
        </p:nvSpPr>
        <p:spPr>
          <a:xfrm>
            <a:off x="609480" y="182880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iskazujemo količinu kupljenog soka ili mlijeka, a kako potrošenu količinu vode u kućanstv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6" descr="menzure"/>
          <p:cNvPicPr/>
          <p:nvPr/>
        </p:nvPicPr>
        <p:blipFill>
          <a:blip r:embed="rId2"/>
          <a:stretch/>
        </p:blipFill>
        <p:spPr>
          <a:xfrm>
            <a:off x="5943600" y="2666880"/>
            <a:ext cx="2523960" cy="25243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9" descr="water-bottle"/>
          <p:cNvPicPr/>
          <p:nvPr/>
        </p:nvPicPr>
        <p:blipFill>
          <a:blip r:embed="rId3"/>
          <a:stretch/>
        </p:blipFill>
        <p:spPr>
          <a:xfrm>
            <a:off x="2666880" y="36576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volumen2"/>
          <p:cNvPicPr/>
          <p:nvPr/>
        </p:nvPicPr>
        <p:blipFill>
          <a:blip r:embed="rId4"/>
          <a:stretch/>
        </p:blipFill>
        <p:spPr>
          <a:xfrm>
            <a:off x="4267080" y="411480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0" descr="tetrapak2"/>
          <p:cNvPicPr/>
          <p:nvPr/>
        </p:nvPicPr>
        <p:blipFill>
          <a:blip r:embed="rId5"/>
          <a:stretch/>
        </p:blipFill>
        <p:spPr>
          <a:xfrm>
            <a:off x="0" y="3724200"/>
            <a:ext cx="3276720" cy="167004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11"/>
          <p:cNvSpPr/>
          <p:nvPr/>
        </p:nvSpPr>
        <p:spPr>
          <a:xfrm>
            <a:off x="4495680" y="556272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odomj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c3324"/>
                </a:solidFill>
                <a:latin typeface="Arial"/>
                <a:ea typeface="Arial"/>
              </a:rPr>
              <a:t>Volumen tije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14200" y="1571400"/>
            <a:ext cx="822960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olumen ili obuj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eličina prosto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ju neko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ijelo zauz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znaka  volumena 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novna mjerna j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dinica volum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u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čn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et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znak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Picture 3" descr=""/>
          <p:cNvPicPr/>
          <p:nvPr/>
        </p:nvPicPr>
        <p:blipFill>
          <a:blip r:embed="rId1"/>
          <a:stretch/>
        </p:blipFill>
        <p:spPr>
          <a:xfrm>
            <a:off x="5867280" y="3276720"/>
            <a:ext cx="2633760" cy="202860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"/>
          <p:cNvSpPr/>
          <p:nvPr/>
        </p:nvSpPr>
        <p:spPr>
          <a:xfrm>
            <a:off x="6786720" y="5410080"/>
            <a:ext cx="20091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Kub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čni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metar m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6705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Manje jedinice volumena s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Content Placeholder 4"/>
          <p:cNvSpPr/>
          <p:nvPr/>
        </p:nvSpPr>
        <p:spPr>
          <a:xfrm>
            <a:off x="428760" y="3286080"/>
            <a:ext cx="822960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7"/>
          <p:cNvSpPr/>
          <p:nvPr/>
        </p:nvSpPr>
        <p:spPr>
          <a:xfrm>
            <a:off x="304920" y="1523880"/>
            <a:ext cx="412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ubični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decimet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m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ubičn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centimet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cm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ubičn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milimet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m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1295280" y="3581280"/>
            <a:ext cx="6858000" cy="1866960"/>
          </a:xfrm>
          <a:prstGeom prst="rect">
            <a:avLst/>
          </a:prstGeom>
          <a:ln w="9360">
            <a:solidFill>
              <a:srgbClr val="d9969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57200" y="190476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lume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cke i kvadra računa se kao umnožak duljina njihovih bridov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1219320" y="3809880"/>
            <a:ext cx="6686280" cy="209556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29600" cy="8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Volumen</a:t>
            </a:r>
            <a:r>
              <a:rPr b="0" lang="hr-HR" sz="3200" spc="-1" strike="noStrike">
                <a:solidFill>
                  <a:srgbClr val="fc3324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tijela pravilna obl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0880" y="9907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olumen tijela oblika kvadra ili valjka računamo kao umnožak baze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 i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jihove vis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168720" cy="1554120"/>
          </a:xfrm>
          <a:prstGeom prst="rect">
            <a:avLst/>
          </a:prstGeom>
          <a:ln w="0">
            <a:noFill/>
          </a:ln>
        </p:spPr>
      </p:pic>
      <p:sp>
        <p:nvSpPr>
          <p:cNvPr id="537" name="TextBox 3"/>
          <p:cNvSpPr/>
          <p:nvPr/>
        </p:nvSpPr>
        <p:spPr>
          <a:xfrm>
            <a:off x="3657600" y="5105520"/>
            <a:ext cx="1676520" cy="459720"/>
          </a:xfrm>
          <a:prstGeom prst="rect">
            <a:avLst/>
          </a:prstGeom>
          <a:noFill/>
          <a:ln w="9360">
            <a:solidFill>
              <a:srgbClr val="f79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 =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80880" y="1676160"/>
            <a:ext cx="4191120" cy="6858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liki je volume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kvarij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Content Placeholder 7"/>
          <p:cNvSpPr/>
          <p:nvPr/>
        </p:nvSpPr>
        <p:spPr>
          <a:xfrm>
            <a:off x="4724280" y="2209680"/>
            <a:ext cx="3471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ješenj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3 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 a·b·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 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·3 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3243240" cy="2361960"/>
          </a:xfrm>
          <a:prstGeom prst="rect">
            <a:avLst/>
          </a:prstGeom>
          <a:ln w="0">
            <a:noFill/>
          </a:ln>
        </p:spPr>
      </p:pic>
      <p:pic>
        <p:nvPicPr>
          <p:cNvPr id="541" name="Slika 2" descr=""/>
          <p:cNvPicPr/>
          <p:nvPr/>
        </p:nvPicPr>
        <p:blipFill>
          <a:blip r:embed="rId2"/>
          <a:stretch/>
        </p:blipFill>
        <p:spPr>
          <a:xfrm>
            <a:off x="380880" y="1135080"/>
            <a:ext cx="10162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694800"/>
            <a:ext cx="8229600" cy="8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olumen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ekuć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4"/>
          <p:cNvSpPr/>
          <p:nvPr/>
        </p:nvSpPr>
        <p:spPr>
          <a:xfrm>
            <a:off x="429480" y="2000160"/>
            <a:ext cx="574164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lume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d 1 dm³ zove 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t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 zna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621000" y="2743200"/>
            <a:ext cx="4347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je jedinice od litre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tar – dL:   1 L = 10 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tar – mL:   1 L = 1 0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ća jedinica od litre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k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tar – hL:  1 hL = 100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6095880" y="3276720"/>
            <a:ext cx="1828800" cy="995400"/>
          </a:xfrm>
          <a:prstGeom prst="rect">
            <a:avLst/>
          </a:prstGeom>
          <a:ln w="9360">
            <a:solidFill>
              <a:srgbClr val="f7986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4"/>
          <p:cNvSpPr/>
          <p:nvPr/>
        </p:nvSpPr>
        <p:spPr>
          <a:xfrm>
            <a:off x="2819520" y="1600200"/>
            <a:ext cx="667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lume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kućine mjerimo menzu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nz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klena posuda na kojoj je ispis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jerna ljestvica za volume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(najčešće u m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6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205740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38:40Z</dcterms:created>
  <dc:creator>Sandra</dc:creator>
  <dc:description/>
  <dc:language>en-US</dc:language>
  <cp:lastModifiedBy>Tomislav Dumančić</cp:lastModifiedBy>
  <dcterms:modified xsi:type="dcterms:W3CDTF">2019-09-17T07:54:07Z</dcterms:modified>
  <cp:revision>57</cp:revision>
  <dc:subject/>
  <dc:title>Slide 1</dc:title>
</cp:coreProperties>
</file>